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FCD-96C6-4395-A3B3-1F7A2453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141-98D1-4D7A-9094-D76447C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27F-673A-43AE-9FB5-67D33D52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AE6-BF4B-4458-A733-57BF7067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87E-0FE5-4CAC-AB58-398F8C0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637-D3AE-4065-8A5D-9F77DDA2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067-44AE-412D-AA89-0AFA3EE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C8-566D-49C3-8C6A-DE94F2D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B6A-90BE-4D50-82A7-73E74A25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DA7-E438-4D5A-B983-62A48F1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342-D933-420B-B2DA-AD8CF1E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442-1320-4AC2-A661-998E789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305-4051-4BEE-876E-8363A5E8D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e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of this fresh water sinks into the_________, some collects in _______ and ________, and some is frozen in ______and 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ground, in rivers and lakes, and ice sheets and glacier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or melted snow that soaks into the ground is called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und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tops ground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layer of rock or clay that it cannot move through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is fresh water different from ocean w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resh water has some dissolved salts, but much less than seawater h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yer of rock and soil that holds the groundwater is an_________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qui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________    of Earth’s water is fresh wate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p level of groundwater in an aquifer is the_______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ater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face waters include_______, _________, and 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ivers, streams, and lak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lting snow, rain water, and groundwater all help form Earth’s________  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rfac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rea from which water drains into a river is called the river’s_____________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iver’s watersh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forms when water collects in a low spo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/100 or 3 hundreth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____________is an artificial lake that forms behind a da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servo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______   of Earth’s fresh water is frozen into i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/10 or 7 tenth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ch of Earth’s ice is on ___________ and 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reenland and Antarct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laces where glaciers and ice sheets reach the ocean, large pieces of ice can break off. The floating pieces of ice are 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iceber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the weight of new snow squeezes  snow into ice what is form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glaciers and ice shee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is what we use for drinking, cooking, and clean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ocean water freezes the salt is pushed out of the ice crystals as they form. This causes the water around the new ice to become more 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re sal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towns in the United States get their water from ____________or _________  ____________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an easy source of fresh wa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roundwater or surface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might surface water might get harmful bacteria or chemic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mful chemicals or bacteria can wash off farm field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king lots, and even lawns that can end up in rivers and lak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irst step in water treat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umping water from groundwater and lakes to treatment pla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chemicals 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ed to the water and tiny sticky particles attract dirt particles; what happens to these dirt particl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artic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ome heavy enough to sink to the bottom of a tan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esh Wa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the water passes through filters (one of the final steps), what is added to the w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 a small amount of chlorine to k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mful bacteria, and  add fluoride to help your tee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ist decay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most all of Earth’s fresh water starts as_______ or 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ain or s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sides drinking, cooking, and cleaning, we also use fresh water to__________, make _________, and make many 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w crops, make electricity, and make many produc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1-02-08T19:03:16Z</dcterms:modified>
  <cp:revision>56</cp:revision>
  <dc:subject/>
  <dc:title>No Slide Title</dc:title>
</cp:coreProperties>
</file>